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0.png" ContentType="image/png"/>
  <Override PartName="/ppt/media/image6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903E-9D02-4353-A9D1-4AD3AEB0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3B4B-C135-45A6-AC4B-0E9681548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CF8F-D25F-4B08-A783-B746757D8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A691-263A-4F96-AF30-EEE856BF8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9976B-9B92-4FEF-BD3C-8DE15C41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18B0-00E0-4AC9-9500-C4D72F0B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A8CC7-54FD-4983-B9D1-7B327CB16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87904-F6D6-40EA-9829-2E3BB7CF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15F4-14AD-4387-8156-91D6F2C7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67930-7DD7-48A6-9A31-412564E4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5E42-48F6-4609-9890-47798E8BF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C148-65BF-4522-9B00-865C78C3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D0B34-A32B-47F7-AB4D-8BCD3711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6DB5-2CBE-40A8-9485-B15AAC62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B9E5-339E-4240-8ABC-AAAB2839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3DB-A915-493A-9EDA-1CE10D364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81AA-D19D-4297-AC83-EBE66693C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C22-730A-4E36-92CC-A5CFA880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6849-8647-437E-88ED-3FB7841E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427A-4AE6-4A78-9F0C-0B5D9F373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5940-23FA-4408-99CE-4DA7840D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64D-10D1-41B4-B5A5-B5E76DF2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6528-6DA5-49A1-ACA0-1D732A1C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5324-27C4-4015-AF7D-C1DA188F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EC47D-12B5-4058-90F2-627D466F49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8607F-80FB-4302-A8AC-7921E08415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mmons.wikimedia.org/wiki/File:Wenceslas_Hollar_-_William_Oughtred.jpg?uselang=ru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1"/>
          <a:stretch/>
        </p:blipFill>
        <p:spPr>
          <a:xfrm>
            <a:off x="3395520" y="1438200"/>
            <a:ext cx="5615280" cy="15368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499920" y="3214800"/>
            <a:ext cx="51865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презентацию подготовил  ученик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4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 Сереж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Times New Roman"/>
              </a:rPr>
              <a:t>Киселева Н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3429000" y="571680"/>
            <a:ext cx="5214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У «Русско-Устьинская основная общеобразовательная школ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113" name="Прямоугольник 5" descr=""/>
          <p:cNvPicPr/>
          <p:nvPr/>
        </p:nvPicPr>
        <p:blipFill>
          <a:blip r:embed="rId2"/>
          <a:stretch/>
        </p:blipFill>
        <p:spPr>
          <a:xfrm>
            <a:off x="622440" y="2517840"/>
            <a:ext cx="83455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1499760" y="1500120"/>
            <a:ext cx="7186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i.allday.ru/uploads/posts/2009-08/thumbs/1250058141_12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cboe.net/Teachers/Durham_Sharon/images/918F9422010B4BB0B160956D6B9D4E34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utkonos.ru/images/it/027/008/006/1238197P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ttp://www.caringbahlearningcentre.com.au/assets/images/calc.JP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Рисунок 3" descr=""/>
          <p:cNvPicPr/>
          <p:nvPr/>
        </p:nvPicPr>
        <p:blipFill>
          <a:blip r:embed="rId2"/>
          <a:stretch/>
        </p:blipFill>
        <p:spPr>
          <a:xfrm>
            <a:off x="642960" y="1428840"/>
            <a:ext cx="728640" cy="100008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4" descr=""/>
          <p:cNvPicPr/>
          <p:nvPr/>
        </p:nvPicPr>
        <p:blipFill>
          <a:blip r:embed="rId3"/>
          <a:stretch/>
        </p:blipFill>
        <p:spPr>
          <a:xfrm>
            <a:off x="428760" y="2857680"/>
            <a:ext cx="1011240" cy="9968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d:\Мои документы\Мои рисунки\+14448-800x800.jpg"/>
          <p:cNvPicPr/>
          <p:nvPr/>
        </p:nvPicPr>
        <p:blipFill>
          <a:blip r:embed="rId4"/>
          <a:stretch/>
        </p:blipFill>
        <p:spPr>
          <a:xfrm>
            <a:off x="133200" y="4138560"/>
            <a:ext cx="148752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786120" y="714240"/>
            <a:ext cx="4686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Изобретателями первых логарифмических линеек являются англичане — математик и педагог Уильям Отред и учитель математики Ричард Деламей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http://t0.gstatic.com/images?q=tbn:ANd9GcRNFxSjRGNPJxPs-udEMvAzkXnjaXJhN8TtWeUFiiCWF6FyUn4cm1apfuE"/>
          <p:cNvPicPr/>
          <p:nvPr/>
        </p:nvPicPr>
        <p:blipFill>
          <a:blip r:embed="rId1"/>
          <a:stretch/>
        </p:blipFill>
        <p:spPr>
          <a:xfrm>
            <a:off x="928800" y="78588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4" descr="http://t0.gstatic.com/images?q=tbn:ANd9GcRJSKKI3xjpe2q2TQZqljHngNq5pus390693bProlw4SAfGQ-mbKajA7oY"/>
          <p:cNvPicPr/>
          <p:nvPr/>
        </p:nvPicPr>
        <p:blipFill>
          <a:blip r:embed="rId2"/>
          <a:stretch/>
        </p:blipFill>
        <p:spPr>
          <a:xfrm>
            <a:off x="928800" y="3429000"/>
            <a:ext cx="1928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71320" y="3285720"/>
            <a:ext cx="7972200" cy="30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Летом 1630 года у Отреда гостил его ученик и друг, лондонский учитель математики Уильям Форстер. Коллеги разговаривали о математике и, как бы сказали сегодня, о методике ее преподавания. В одной из бесед Отред критически отозвался о шкале Гюнтера, отметив, что манипулирование двумя циркулями отнимает много времени и дает низкую точ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Рисунок 3" descr="http://t3.gstatic.com/images?q=tbn:ANd9GcS0YvEh1L5Fc-oKo8Aic8riWad8aS-KekpIk-JxvfdZW6xElLsYl7MQ-CY"/>
          <p:cNvPicPr/>
          <p:nvPr/>
        </p:nvPicPr>
        <p:blipFill>
          <a:blip r:embed="rId1"/>
          <a:stretch/>
        </p:blipFill>
        <p:spPr>
          <a:xfrm>
            <a:off x="1714680" y="500040"/>
            <a:ext cx="4786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714480" y="642960"/>
            <a:ext cx="4971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аллиец Эдмунд Гюнтер построил логарифмическую шкалу, которая использовалась вместе с двумя циркулями-измерителями. Шкала Гюнтера представляла собой отрезок с делениями, соответствующими логарифмам чисел или тригонометрических величин. (Несколько таких шкал располагались на деревянной или медной пластинке параллельно друг другу.) С помощью циркулей-измерителей определяли сумму или разность длин отрезков шкалы, что в соответствии со свойствами логарифмов позволяло находить произведение или частн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3" descr="Wenceslas Hollar - William Oughtred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28800" y="785880"/>
            <a:ext cx="285732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214520" y="1071720"/>
            <a:ext cx="44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Первая линейка Отреда имела две логарифмические шкалы, одна из которых могла смещаться относительно другой, неподвиж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Второй инструмент представлял собой кольцо, внутри которого вращался на оси кру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На круге (снаружи) и внутри кольца были изображены “свернутые в окружность” логарифмические шкал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      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</a:rPr>
              <a:t>Обе линейки позволяли обходиться без циркулей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571680" y="1571760"/>
            <a:ext cx="3951000" cy="873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4" descr="http://elcode-blog.ru/wp-content/uploads/2011/11/025-150x150.jpg"/>
          <p:cNvPicPr/>
          <p:nvPr/>
        </p:nvPicPr>
        <p:blipFill>
          <a:blip r:embed="rId2"/>
          <a:stretch/>
        </p:blipFill>
        <p:spPr>
          <a:xfrm>
            <a:off x="1071720" y="3214800"/>
            <a:ext cx="2500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142880" y="785880"/>
            <a:ext cx="4472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По всей видимости, Уильям Отред и Ричард Деламейн изобрели логарифмическую линейку независимо друг от друга.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А в 1654 году англичанин Роберт Биссакер предложил конструкцию прямоугольной логарифмической линейки, общий вид которой сохранился до нашего времени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3" descr=" Линейка Уатта  "/>
          <p:cNvPicPr/>
          <p:nvPr/>
        </p:nvPicPr>
        <p:blipFill>
          <a:blip r:embed="rId1"/>
          <a:stretch/>
        </p:blipFill>
        <p:spPr>
          <a:xfrm>
            <a:off x="1343160" y="693720"/>
            <a:ext cx="18716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1"/>
          <a:stretch/>
        </p:blipFill>
        <p:spPr>
          <a:xfrm>
            <a:off x="493560" y="206676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Содержимое 3" descr=""/>
          <p:cNvPicPr/>
          <p:nvPr/>
        </p:nvPicPr>
        <p:blipFill>
          <a:blip r:embed="rId1"/>
          <a:stretch/>
        </p:blipFill>
        <p:spPr>
          <a:xfrm>
            <a:off x="857160" y="428760"/>
            <a:ext cx="3357720" cy="2071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10"/>
          <p:cNvSpPr/>
          <p:nvPr/>
        </p:nvSpPr>
        <p:spPr>
          <a:xfrm>
            <a:off x="1428840" y="24289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линей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Рисунок 11" descr=""/>
          <p:cNvPicPr/>
          <p:nvPr/>
        </p:nvPicPr>
        <p:blipFill>
          <a:blip r:embed="rId2"/>
          <a:stretch/>
        </p:blipFill>
        <p:spPr>
          <a:xfrm>
            <a:off x="4643280" y="428760"/>
            <a:ext cx="3143520" cy="214308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4"/>
          <p:cNvSpPr/>
          <p:nvPr/>
        </p:nvSpPr>
        <p:spPr>
          <a:xfrm>
            <a:off x="4725360" y="2643120"/>
            <a:ext cx="300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ая столя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Содержимое 3" descr=""/>
          <p:cNvPicPr/>
          <p:nvPr/>
        </p:nvPicPr>
        <p:blipFill>
          <a:blip r:embed="rId3"/>
          <a:stretch/>
        </p:blipFill>
        <p:spPr>
          <a:xfrm>
            <a:off x="928800" y="328608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6"/>
          <p:cNvSpPr/>
          <p:nvPr/>
        </p:nvSpPr>
        <p:spPr>
          <a:xfrm>
            <a:off x="1006200" y="5429160"/>
            <a:ext cx="27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Транспортир с линей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7" descr=""/>
          <p:cNvPicPr/>
          <p:nvPr/>
        </p:nvPicPr>
        <p:blipFill>
          <a:blip r:embed="rId4"/>
          <a:stretch/>
        </p:blipFill>
        <p:spPr>
          <a:xfrm>
            <a:off x="4714920" y="3357720"/>
            <a:ext cx="3000240" cy="214308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8"/>
          <p:cNvSpPr/>
          <p:nvPr/>
        </p:nvSpPr>
        <p:spPr>
          <a:xfrm>
            <a:off x="4000680" y="5357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аллический комбинированный уголь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Содержимое 3" descr=""/>
          <p:cNvPicPr/>
          <p:nvPr/>
        </p:nvPicPr>
        <p:blipFill>
          <a:blip r:embed="rId1"/>
          <a:stretch/>
        </p:blipFill>
        <p:spPr>
          <a:xfrm>
            <a:off x="1000080" y="57168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07" name="Прямоугольник 4"/>
          <p:cNvSpPr/>
          <p:nvPr/>
        </p:nvSpPr>
        <p:spPr>
          <a:xfrm>
            <a:off x="414720" y="2571840"/>
            <a:ext cx="336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Линейка Стамм инерцион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Рисунок 5" descr=""/>
          <p:cNvPicPr/>
          <p:nvPr/>
        </p:nvPicPr>
        <p:blipFill>
          <a:blip r:embed="rId2"/>
          <a:stretch/>
        </p:blipFill>
        <p:spPr>
          <a:xfrm>
            <a:off x="4643280" y="642960"/>
            <a:ext cx="2714760" cy="185724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4294800" y="2571840"/>
            <a:ext cx="347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тр складной металл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Рисунок 7" descr=""/>
          <p:cNvPicPr/>
          <p:nvPr/>
        </p:nvPicPr>
        <p:blipFill>
          <a:blip r:embed="rId3"/>
          <a:stretch/>
        </p:blipFill>
        <p:spPr>
          <a:xfrm>
            <a:off x="3286080" y="3929040"/>
            <a:ext cx="2571840" cy="114300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8"/>
          <p:cNvSpPr/>
          <p:nvPr/>
        </p:nvSpPr>
        <p:spPr>
          <a:xfrm>
            <a:off x="3367440" y="5143680"/>
            <a:ext cx="24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Мерительное колес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6T03:24:12Z</dcterms:created>
  <dc:creator>Comp</dc:creator>
  <dc:description/>
  <dc:language>en-US</dc:language>
  <cp:lastModifiedBy>Admin</cp:lastModifiedBy>
  <dcterms:modified xsi:type="dcterms:W3CDTF">2014-11-30T03:59:26Z</dcterms:modified>
  <cp:revision>14</cp:revision>
  <dc:subject/>
  <dc:title>Слайд 1</dc:title>
</cp:coreProperties>
</file>